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A51E5-623D-4106-9A2E-D2E828EC8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CC237-14E3-4F02-A0B6-B810812BB7B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BE0E0-ADE2-4DDC-91F3-053046B9F3E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488F20-5C61-44E0-86B9-BCED58C35F9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C293BAB-4AFE-4C13-8CC0-491AC4454881}" type="datetime">
              <a:rPr b="0" lang="fr-FR" sz="1200" spc="-1" strike="noStrike">
                <a:solidFill>
                  <a:srgbClr val="000000"/>
                </a:solidFill>
                <a:latin typeface="Times New Roman"/>
                <a:ea typeface="Arial"/>
              </a:rPr>
              <a:t>30/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39BC4-6D7B-406B-92AB-FAA3BACC862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2A9E9-423B-41D9-9AA1-B203288D591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16253-A201-44A1-9DBB-74C974E01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EFEAC-4976-4CBA-9E78-8F7650AAD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E75A1-84A8-4112-AF30-B460EB4B3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139AA-8959-4007-8BD1-3882802A1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67B28-0B7A-4D22-9840-1F34EAFFA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C753C-2C79-4025-B317-F8FE8239A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4FC5B-DFC6-4709-AB54-D628F3DE8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D6D1D-134D-4BF0-AC10-EEAD4F837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3DB2E-44AF-41D7-9348-D190C66C0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D3B52-9A42-4748-B008-D05D52C53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3D04B-D211-4D8B-A505-CAF2737F0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70686-D5B4-4F02-954D-30267BA4B7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E0C75-97F8-458B-9E1C-98FBB2BA4F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5540742-ED57-4C7C-B1C4-F6B7EABF9B2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C34BD-2027-4561-98D1-0D6AA9D61E83}"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F43DB-9962-4A3A-BAFC-93E2B855F7C7}"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